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76B9-C36A-41DB-BEA2-FAE31A06DF9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63F5-78AA-450B-BD40-227EC637B59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Header Placeholder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4D6D-F6B0-412A-BADD-263B2F7E339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FB63-11CD-451E-9F81-9F2E58065E5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7038-F883-40E7-80F0-D08BE93E2FA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1E0-D6F6-4C61-9B27-1CA4C73D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2B2-FF6F-4D95-B95D-933A5FB3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03F1-26DE-46AE-99FA-22189909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D75-C6A7-42A2-89D0-EB88A94F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BCC-B8DC-4CF6-A421-93307D37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399-EE5E-4082-A392-5512E862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7A9-3A76-43B3-930E-C78598CD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95D2-912D-4F81-AA08-D0E164AF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287-267A-4952-A43A-C7CF7048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EC9-03F8-43AB-9113-7BBC6A04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349-34C6-434C-888F-4CF2C6CE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F63-8CD1-4D6C-AA07-BE01EF91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417A-E945-448F-A84A-9F154CAC6E4D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38E8-142B-43A1-9EFD-C14A86A76FD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066A-7311-4749-9384-3FBDCEE1C16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68360" y="292428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Informativa sulle attività dell’Autorità di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68360" y="500040"/>
            <a:ext cx="82454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PO FSE SICILIA  2014/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OBIETTIVO CONVERG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8"/>
          <p:cNvGraphicFramePr/>
          <p:nvPr/>
        </p:nvGraphicFramePr>
        <p:xfrm>
          <a:off x="4608360" y="4903920"/>
          <a:ext cx="6480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360" y="4903920"/>
                    <a:ext cx="648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Box 2"/>
          <p:cNvSpPr/>
          <p:nvPr/>
        </p:nvSpPr>
        <p:spPr>
          <a:xfrm>
            <a:off x="250920" y="628164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99"/>
                </a:solidFill>
                <a:latin typeface="Arial"/>
              </a:rPr>
              <a:t>Comitato di Sorveglianza 25 giugno 201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"/>
          <p:cNvPicPr/>
          <p:nvPr/>
        </p:nvPicPr>
        <p:blipFill>
          <a:blip r:embed="rId3"/>
          <a:stretch/>
        </p:blipFill>
        <p:spPr>
          <a:xfrm>
            <a:off x="250920" y="4992840"/>
            <a:ext cx="1257120" cy="7905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995640" y="571032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3399"/>
                </a:solidFill>
                <a:latin typeface="Arial"/>
              </a:rPr>
              <a:t>Regione Sicili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4"/>
          <a:stretch/>
        </p:blipFill>
        <p:spPr>
          <a:xfrm>
            <a:off x="6156360" y="5084640"/>
            <a:ext cx="168264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Immagine 10" descr="Risultato immagine per logo repubblica italiana scaricabile"/>
          <p:cNvPicPr/>
          <p:nvPr/>
        </p:nvPicPr>
        <p:blipFill>
          <a:blip r:embed="rId5"/>
          <a:srcRect l="0" t="0" r="0" b="20257"/>
          <a:stretch/>
        </p:blipFill>
        <p:spPr>
          <a:xfrm>
            <a:off x="2556000" y="4924440"/>
            <a:ext cx="7905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2AB8-0555-4CC8-9016-0A9888A27FA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03280" y="1916280"/>
            <a:ext cx="7929360" cy="39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Bandi con criteri restrittivi e/o discriminatori tali da impedire a nuovi enti di formazione di presentare domande di finanziamen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assenza di schede di presenza dettagliate che specifichino le ore e le attività svolte dal personale responsabile per garantire il rispetto della norma sull’incompatibilità del doppio incarico (es. tutor e insegnant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bandi FSE sul finanziamento di borse di dottorato che prevedono l’obbligo per gli studenti di trascorrere un periodo all’estero mentre tale opportunità è facoltativa per gli studenti di dottorato non cofinanziati. La previsione di un tale obbligo può essere discriminator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il contributo dei progetti agli indicatori associati non è stato debitamente verific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124000" y="63216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79280" y="274680"/>
            <a:ext cx="8577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ANTICIPAZIONI DELLE PRINCIPALI CONSTATAZIONI DELLA CE RELATIVE AI PROGETTI CONTROLLATI NEL CORSO DELLA MISSIONE DI AU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E6FF-9918-48D8-969E-82FECE2414E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92200" y="1413000"/>
            <a:ext cx="794844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Con riferimento ad un progetto volto ad aumentare la capacità amministrativa regionale ed  implementato principalmente tramite attività di consulenza esterna con competenza specifiche sono state individuate le seguenti caren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l’oggetto delle attività di consulenza rimane molto vago e di difficile       comprensione e i risultati non sono stati controllati debitamente dall’Ad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presenza di relazioni finali di alcuni consulenti che includono attività svolte per conto dell’ AdG più affini a mansioni dell’ assistenza tecnica piuttosto che ad attività volte al miglioramento dell’organizzazione amministrativa della regione. Ciò non è considerato in linea con l’obiettivo specifico dell’asse prioritario nel quale l’operazione è certific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L’AdA è in attesa del rapporto provvisorio della 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124000" y="63216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122" name="Freccia a destra 1"/>
          <p:cNvSpPr/>
          <p:nvPr/>
        </p:nvSpPr>
        <p:spPr>
          <a:xfrm>
            <a:off x="304920" y="3141720"/>
            <a:ext cx="287280" cy="216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ccia a destra 8"/>
          <p:cNvSpPr/>
          <p:nvPr/>
        </p:nvSpPr>
        <p:spPr>
          <a:xfrm>
            <a:off x="304920" y="3860640"/>
            <a:ext cx="287280" cy="216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179280" y="0"/>
            <a:ext cx="8577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ANTICIPAZIONI DELLE PRINCIPALI CONSTATAZIONI DELLA CE RELATIVE AI PROGETTI CONTROLLATI NEL CORSO DELLA MISSIONE DI AU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E94C-F506-44DE-8D58-41215F6D147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68360" y="142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Periodo di Audit 1 luglio 2017 – 30 giugno 20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95280" y="981000"/>
            <a:ext cx="8105760" cy="25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AUDIT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DI SISTEMA</a:t>
            </a:r>
            <a:r>
              <a:rPr b="1" i="1" lang="it-IT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’analisi del sistema di gestione e controllo ha riguard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torità di Gest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torità di Cert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CdR Dipartimento Famiglia e Politiche So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95280" y="3552840"/>
            <a:ext cx="810576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AFFIDABILITA’ DEL SISTEMA</a:t>
            </a: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1f497d"/>
                </a:solidFill>
                <a:latin typeface="Arial"/>
              </a:rPr>
              <a:t>emerso dall’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Categoria 2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–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Funziona.  Sono necessari alcuni miglioramenti -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confidenza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340000" y="619776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393840" y="604368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2"/>
          <p:cNvSpPr/>
          <p:nvPr/>
        </p:nvSpPr>
        <p:spPr>
          <a:xfrm>
            <a:off x="395280" y="5119560"/>
            <a:ext cx="85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a relazione di sistema è stata trasmessa via SFC ai servizi della Commi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in data 8 giugno 2018 e caricata in pari data sul portale CIRCABC della 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6750-9876-4901-B5C8-49F3A8B4717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68360" y="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1f497d"/>
                </a:solidFill>
                <a:latin typeface="Arial"/>
              </a:rPr>
              <a:t>AUDIT DELLE OPERAZI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9640" y="907920"/>
          <a:ext cx="8064720" cy="1756080"/>
        </p:xfrm>
        <a:graphic>
          <a:graphicData uri="http://schemas.openxmlformats.org/drawingml/2006/table">
            <a:tbl>
              <a:tblPr/>
              <a:tblGrid>
                <a:gridCol w="2303640"/>
                <a:gridCol w="2808360"/>
                <a:gridCol w="2952720"/>
              </a:tblGrid>
              <a:tr h="31284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omande di pagamento a dicembre 2017 e giugno 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Fasi di campion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Importo certifica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5.829.369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.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I F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7.163.774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39640" y="4292640"/>
          <a:ext cx="8064720" cy="1800360"/>
        </p:xfrm>
        <a:graphic>
          <a:graphicData uri="http://schemas.openxmlformats.org/drawingml/2006/table">
            <a:tbl>
              <a:tblPr/>
              <a:tblGrid>
                <a:gridCol w="2311560"/>
                <a:gridCol w="2728800"/>
                <a:gridCol w="3024360"/>
              </a:tblGrid>
              <a:tr h="36036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ampioni estrat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Importo complessivo del camp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9.151.926,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I F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.344.136,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TextBox 2"/>
          <p:cNvSpPr/>
          <p:nvPr/>
        </p:nvSpPr>
        <p:spPr>
          <a:xfrm>
            <a:off x="2516040" y="631656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00040" y="2781360"/>
            <a:ext cx="806436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f497d"/>
                </a:solidFill>
                <a:latin typeface="Arial"/>
              </a:rPr>
              <a:t>La combinazione delle risultanze dell’attività dell’audit di sistema e dell’audit sulle operazioni del periodo di riferimento precedente, ha confermato il </a:t>
            </a:r>
            <a:r>
              <a:rPr b="1" i="1" lang="it-IT" sz="1800" spc="-1" strike="noStrike" u="sng">
                <a:solidFill>
                  <a:srgbClr val="1f497d"/>
                </a:solidFill>
                <a:uFillTx/>
                <a:latin typeface="Arial"/>
              </a:rPr>
              <a:t>livello di confidenza del 70%</a:t>
            </a:r>
            <a:r>
              <a:rPr b="0" i="1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Arial"/>
              </a:rPr>
              <a:t>da tenere in considerazione per l’attività di campio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539640" y="6218280"/>
            <a:ext cx="1683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E32E-2941-479E-8514-778B6DB3E06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285840" y="35712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AUDIT</a:t>
            </a:r>
            <a:r>
              <a:rPr b="0" lang="it-IT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DELLE OPER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474840" y="1498680"/>
            <a:ext cx="810576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Il totale delle spese irregolari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I Fas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è stato pari a € 8.514,40 con un tasso di errore sul campione pari allo 0,093%, mentre il totale delle spese irregolari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II Fas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è stato pari a € 3.386,40 con un tasso di errore sul campione pari allo 0,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’errore complessivo del campione di I e II fase è stato pertanto pari ad € 11.900,80 con un tasso di errore del campione pari a allo 0,11% che ha determinato un </a:t>
            </a:r>
            <a:r>
              <a:rPr b="1" lang="it-IT" sz="2000" spc="-1" strike="noStrike" u="sng">
                <a:solidFill>
                  <a:srgbClr val="1f497d"/>
                </a:solidFill>
                <a:uFillTx/>
                <a:latin typeface="Arial"/>
              </a:rPr>
              <a:t>tasso di errore total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(TET) sull’intera spesa certificata di € 32.993.143,49 pari al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2,30%,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ricondotto dall’AdG al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2%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prima della presentazione del pacchetto di affidabilità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340000" y="623736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DDCA-1E7B-416A-AB72-70EC0ED437E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755640" y="4046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RAC E PARERE 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684360" y="1484280"/>
            <a:ext cx="77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’attività di audit – periodo di riferimento 1°luglio 2017 - 30 giugno 2018 si è conclusa con la redazione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Relazione annuale di controllo e del Parere annuale di 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espresso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senza riserve,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trasmessi via SFC alla Commissione Europea con nota 688/06 del 14 febbraio 20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a Commissione Europea, con la nota Ares (2019) 1757497 del 18 marzo 2019 ha dichiarato che la Relazione annuale e il parere di Audit, la dichiarazione di gestione e la sintesi annuale di cui all’art. 138 lett b) e c) dell’RDC (pacchetto affidabilità) sono conformi alla legislazioni vig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211480" y="6237360"/>
            <a:ext cx="58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DEED-CC59-4A68-825E-0DF2ACCF67E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468360" y="142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Periodo di Audit 1 luglio 2018 – 30 giugno 20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95280" y="836640"/>
            <a:ext cx="810576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AUDIT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DI SISTEMA</a:t>
            </a:r>
            <a:r>
              <a:rPr b="1" i="1" lang="it-IT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L’analisi del sistema di gestione e controllo ha riguarda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Autorità di Gesti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Autorità di Certificazi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CdR Dipartimento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500040" y="3500280"/>
            <a:ext cx="810576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LIVELLO DI AFFIDABILITA’ DEL SISTEMA </a:t>
            </a:r>
            <a:r>
              <a:rPr b="0" i="1" lang="it-IT" sz="2000" spc="-1" strike="noStrike">
                <a:solidFill>
                  <a:srgbClr val="1f497d"/>
                </a:solidFill>
                <a:latin typeface="Arial"/>
              </a:rPr>
              <a:t>emerso dall’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Categoria 2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– Funziona. Sono necessari alcuni miglioramen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confidenza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a relazione di sistema è stata trasmessa ai servizi della Commissione via SFC in data 14 febbraio 2019 e in pari data è stata caricata sul portale CIRCABC della 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627280" y="623736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D241-9494-430A-BCB9-6B9B7C1BEAC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68360" y="0"/>
            <a:ext cx="8066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Audit delle oper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907920"/>
          <a:ext cx="8064720" cy="1152720"/>
        </p:xfrm>
        <a:graphic>
          <a:graphicData uri="http://schemas.openxmlformats.org/drawingml/2006/table">
            <a:tbl>
              <a:tblPr/>
              <a:tblGrid>
                <a:gridCol w="2675160"/>
                <a:gridCol w="3143160"/>
                <a:gridCol w="2246400"/>
              </a:tblGrid>
              <a:tr h="31284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omanda di pagamento a dicembre 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mporto certific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85.010.725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5.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9640" y="2708280"/>
          <a:ext cx="8064720" cy="1373040"/>
        </p:xfrm>
        <a:graphic>
          <a:graphicData uri="http://schemas.openxmlformats.org/drawingml/2006/table">
            <a:tbl>
              <a:tblPr/>
              <a:tblGrid>
                <a:gridCol w="3240360"/>
                <a:gridCol w="4824360"/>
              </a:tblGrid>
              <a:tr h="360360"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ampione estr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Importo complessivo del camp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2.128.122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9" name="TextBox 2"/>
          <p:cNvSpPr/>
          <p:nvPr/>
        </p:nvSpPr>
        <p:spPr>
          <a:xfrm>
            <a:off x="2195640" y="623736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00040" y="2428920"/>
            <a:ext cx="8064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102" name="CasellaDiTesto 1"/>
          <p:cNvSpPr/>
          <p:nvPr/>
        </p:nvSpPr>
        <p:spPr>
          <a:xfrm>
            <a:off x="500040" y="4508640"/>
            <a:ext cx="8137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’attività di verifica sulle operazioni campionate è stata avviata in data 4 marzo 2019 e si è conclusa il 24 giugno 2019 con la stesura dei rapporti provvisori. A seguito del contraddittorio questa AdA entro il 30 settembre 2019 invierà ai CdR interessati i rapporti definitivi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98C9-4BE9-4A68-9BF5-E875E12A60F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74560" y="836640"/>
            <a:ext cx="79218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I servizi della Commissione hanno chiesto alle AdA, già a fine 2018, di trattare nelle Relazioni annuali di controllo (RAC) gli approfondimenti sulle attività svolte, nell’ambito degli audit di sistema e delle operazioni, sull’affidabilità dei dati relativi agli indicatori di perform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Questa AdA ha ritenuto opportuno garantire l’affidabilità dei dati degli indicatori di performance attraverso una metodologia svolta in tre fasi che ha riguard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dit di sistema (svolti sul periodo contabile 2018/201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dit sulle operazioni (periodo contabile 2017-2018 completati e 2018-2019 in cors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Verifica affidabilità dei dati di PF riportati nella bozza di RAA (in cors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Gli esiti dell’attività svolta sugli indicatori saranno compendiati in un rapporto che verrà trasmesso entro il mese di giugno alla CE via SF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340000" y="623556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VERIFICA AFFIDABILITA’ DATI  SUGLI INDICATORI DI 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6B3C-B3A0-49FC-9DF0-1ECF070E3D9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39640" y="1052640"/>
            <a:ext cx="799308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Missione di Audit  21-29 maggio 2019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della DG EMPL (ARES 2498485 del 9 aprile 2019) sul lavoro svolto dall'AdA per il periodo contabile 2017/201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'audit ha riguard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a revisione della metodologia dell'AdA in relazione ai seguenti requisiti chiav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 RC 15 - Audit di sistema adegu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 RC 16 - Audit delle operazioni adegu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RC 18 - Procedure adeguate per fornire un parere di audit             affidabile per la preparazione della R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a riesecuzione degli audit di 8 operazioni scelte a campione tra quelle controllate dall'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124000" y="62355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84360" y="260280"/>
            <a:ext cx="77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3399"/>
                </a:solidFill>
                <a:latin typeface="Arial"/>
              </a:rPr>
              <a:t>MISSIONI DI AUDIT DELLA 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0:36:00Z</dcterms:created>
  <dc:creator>PriceWaterhouseCoopers Spa</dc:creator>
  <dc:description/>
  <dc:language>en-US</dc:language>
  <cp:lastModifiedBy>Autore</cp:lastModifiedBy>
  <cp:lastPrinted>2019-06-24T14:33:14Z</cp:lastPrinted>
  <dcterms:modified xsi:type="dcterms:W3CDTF">2019-06-25T08:06:27Z</dcterms:modified>
  <cp:revision>296</cp:revision>
  <dc:subject/>
  <dc:title>Slide 1</dc:title>
</cp:coreProperties>
</file>